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63DB-277B-43E7-8119-41241935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3373-FD1D-4C0F-98ED-9BDD699B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261A1-F4DC-4FB5-A953-2E4C8C78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626F0-C1B9-40DD-B8BA-05113E04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CFAB3-10F0-4863-B48C-1A7BC38A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63997-8519-4FBF-BDF4-0D61E9C2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6C02E-CD33-4F68-B383-97FFC556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59152-6C1C-47C6-853F-58BDA7E9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32615-D249-40A9-A141-D0068DCA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B578A-9668-4178-A1C6-7BD64357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C2329-30A1-4670-9FFB-55502A4B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BC459-3BDE-4C4A-B912-069BF916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178E-6CF3-423E-A71F-24B12274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B0636-F155-44BC-8B73-F82767BF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5313B-24D3-4336-B771-1011A8CE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2991D-CF12-4842-8A44-CA43BCA6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27060-A5B9-41BE-85E1-05E77FEC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EBAA4-3DDE-41AF-8C9B-27A6C38F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9020B-B771-446D-8DD7-5A3E4E81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7D0CC-48CD-4AD0-8AD8-F5BCA289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7A2F3-46DE-49D8-97CA-3C20A812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53103-58D6-47DD-9ACA-F75B1B04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1C304-13CA-4378-81D0-FFD98F86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80AF-A810-46A4-9049-0135E121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51E58-EE57-44D8-A27D-6C13D6BA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76355-2B20-4724-A4E8-78495855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8617E-169F-45BF-94E8-53E2524A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95ED5-BC3C-47AD-A14C-60B5D369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CC123-7805-4FC9-8922-2E1FD5C5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0A303-506C-4CF8-8993-6D5F1974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586A0-06D0-4407-BEBF-41E6F500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82762-8A6E-42F6-A4D7-7774408D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3EF87-23C2-4BFA-A87A-62103139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B11B5-778A-4856-A489-A884F4EC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DFCC-C289-4E58-8EA2-CAF40351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1ABBC-FE80-49DF-B1F4-F43237CB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22C2D-6B94-45F1-855B-AFBD5CF2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B55B3-A00D-4E27-BFC0-F0BECA31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826D5-9B21-4B2E-8430-69A46787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E4613-B0E4-4989-B0C8-0E74ECAD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89721-E7C8-4DC6-A582-3A957FF6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933CF-574D-4360-8BEB-259E0EF5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98678-405A-4238-A3A9-CE3916EF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7442D-1209-442D-8474-D31C3617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A5D76-B817-40BF-89E5-2A2687A0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0056-9D17-4EAF-9407-EFDAC2AA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8882D-0BB2-4CDE-88E1-6B8EA056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085A8-9F27-4258-AB85-753ACFC3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4BC83-4BD8-43E8-8005-01797C37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3757F-E616-46E4-94CC-8D24EC472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AD221-479C-4FFB-A81D-F3369DEB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B502-A9B3-4965-A4C2-FAEAAE25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23A1-0411-4528-8DAD-DAA20623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C5C1-7FDE-441E-A161-3FC0F174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CCCB-1AAB-4EF8-B563-8FFEB6E8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4617-B590-441F-B17B-C7FC9C5F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C2BA-15CB-4243-BFE6-BF8465E1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AE05-E63C-4A66-814C-A40371F2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C432-5683-4B6C-8BDC-7AFA4EDF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BEB7-10F4-4336-BE50-A8F048C2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AFEA-E994-44ED-8C63-D0FCB19C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A703-7105-44F0-AC65-072256D6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47E7D-36C1-4957-BC95-59052452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B2BA2-7E23-456C-A8BA-BBB72F75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ED838-6AFF-43DD-B34B-FCCB8EF1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069A4-5800-4404-A638-3B6D7007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9367F-6067-412F-A119-17C9718F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295D-5121-42C7-926A-CB52F56D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EA440-5256-44EE-807E-A6F3D30E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904E7-1658-461D-90E5-F0D5AEEA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C606D-1F2D-4F85-BCFA-2CE9C097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70F95-0A4D-418A-9A96-A0054BCF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7D044-7DF2-45B9-BC19-6B1333F0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5CF05-48E0-47F2-AEDA-0C0A0A3C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F3871-DCDF-4DD7-8649-45DFFB28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ED402-57C2-4776-A6E6-409ECB053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0AEBA-0EEC-4452-9528-6FE794FD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81830-DADC-4872-9A38-1B053FD2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4950-A024-4D67-86D7-2D0036EA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47D91-8717-418B-8CA1-D4AF8B1E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B0E4C-2344-43F5-B988-8BFC0B5B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36023-3CBD-402B-9EA7-DBAF95A7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8B939-FB3C-4444-8341-A6526896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B5522-064C-4257-9AEC-ACF476F5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7AF2E-0D00-4D90-B06F-39757BD6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BC339-1A16-49E0-A506-0EEA3806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D08FF-079D-4E5C-BFF3-674578D5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CFD5D-9D52-4DD2-A73A-9140F538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C2EEA-5CBA-44C7-86E8-C7AB16B8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916C-B031-43B2-9796-2D881313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7E64E-59B4-48A7-AF5E-EFBD5431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85E50-43B7-4B9D-AB84-3D1EB1B4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67EB5-FEA6-4C13-8E31-1BA51372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F9ACF-F51F-4AEC-8F3D-104B656B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24281-29FA-4FA6-9BF5-7C2275AC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F72B6-B412-4AB2-862A-6842D13A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3F32F-4879-4DE7-8DAE-47737EE0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BE21A-64E7-4122-8BF3-146C4C33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EBD0D-6AA5-44E9-9AB6-D6002C39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9BB02-A8DC-441D-99F5-8F551E00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9FA7-CE8A-4C73-9CF7-989518D1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3C270-127B-4CFA-BAA2-E36C756E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F3029-9DCE-4239-A55F-144AB21C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A8A9C-8CC4-4FB0-BCD2-6EE52ED1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45420-5045-4255-9038-AAEABD07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FB34F-CF9C-4050-A7AD-7BCAFAA6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6A517-C0B3-4E51-8775-E729C2A6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72DFB-BBF6-4DEB-B6A5-AABA3984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F11E3-CD03-4ACF-8280-94E55383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08909-DAFC-4335-B5C2-31146D07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6E5CF-F374-4CAB-904C-805C881B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988C-42F7-4585-A23A-BB95C30F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F9FEB-2B10-4929-AB10-230BDEBC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470F1-1C6C-4F93-A83C-0B2B6368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CB953-99DE-409D-BFE3-4B24B2F2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9E3CD-0653-4381-8CF8-E03600E7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E89C2-879A-48D4-9A94-1072CC1F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02DEC-448C-40CE-83C7-2D97DD4A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E34AE-78C8-4428-A294-DA5C040E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FB65C-94BD-4401-A0E3-38AFC4FA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26F79-235F-4203-9D83-C7E4EA79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1B72E-3377-4E1D-B678-02B28AD8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89E0-2C55-4BEB-8788-3C2E2E73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699E2-7323-4029-955E-4FD8BCD0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79123-94AE-43BC-8F11-E1523BDB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04374-9473-450F-8D32-2C8EDC5E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B7EFA-2E28-4771-A769-B008C482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67162-19E6-428A-B383-C93D4988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A4220-649A-4BE2-938E-4A1C92CB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C2364-1680-49C3-BB6B-623B5B11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2431B-A572-4F78-BB19-C86D8B2E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B47C9-A846-4545-97D5-C7465279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F3BF3-8E02-41D7-8EA2-797C6AD1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8AD2-2262-4F32-A81F-10738A02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4BE3C-74BF-4DC9-A3EC-1D703A39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A8F53-6EFD-487F-9882-0CBE4FC2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2B4BE-AA60-45E6-AA92-637466FF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01AE8-CCA2-40A2-8331-424571CB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81D93-990D-401A-997E-7A27B9C9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A21B4-14B9-4779-94EF-2745D6E1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23356-EBB2-4F45-8E5E-23C89B82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F1CB8-6A50-42F3-8456-77AA9441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F442A-3A50-4960-9274-58E970BE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1D6C8-1CF6-41BD-8DA8-7A01E3EB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8D2D-7556-4A84-AF99-705C8EDC8E7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D01A-CF70-4483-97C2-B3D14CD4578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D0D1-5E96-42A3-B123-803997D41E1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3226-45A8-4BEB-B317-17B3727D621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6305-D7EA-405A-A20B-8CD6D0A23EA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237E-7CAF-438B-A74E-0C358086F64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893D-234C-46A7-89AE-0E32A87A85D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05D0-D666-4EC3-A4D4-D266EE9AECF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31D5-A19E-4B09-966E-ED26C7444D6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D04C-4308-4221-892E-CAE3A19268B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523D-4EE0-483A-B480-17F513F19FD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9161-CBBF-4290-8770-DADCFE2E24D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93 Príď, Svätý Boží Duch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, Svätý Boží Duch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 a mocne vládni v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d vplyvom tvoj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e ž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 tichý počuť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, oheň z neba, rozohr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srdcia studené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prúdom moci nebesk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ú znovuzroden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, vánok tich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ôsob v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č mier do sveta ni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môž nám šíriť, kým je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tnú spásy zvesť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, vlaha z neba, Boží dar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rop úhor navôko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k balzam lieč a popraj zdar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íš hlad i srdca bô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, múdry Radca, Teš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s nauč ako ž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víťazstvu cieľu určuj smer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, Duchu svätý, príď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1-30T17:57:26Z</dcterms:modified>
  <cp:revision>20</cp:revision>
  <dc:subject/>
  <dc:title>Je veľký náš Pán, on slávy je Kráľ Nech do všetkých strán  spev vrúcnych znie chvál.</dc:title>
</cp:coreProperties>
</file>